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00A7-46CA-4E01-94C0-FF546226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EEC4-D6D3-4322-A7E8-2D1217F3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6B23-D3A7-4984-AC68-554E7D9F5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CC0A-9C73-43F8-854E-BBB67C56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0ACF-63CA-49BD-AE42-8BC27A74B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B140-EB7D-4505-A0A1-6A17BC11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CF7D-0777-4BEE-8F79-F5578A88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FEDC-F239-4E05-8DFA-2590F908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11CA-4998-4B11-A922-101036DC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DC04-83FC-43D0-93DB-1AE87F44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08E9-9148-4673-AEAC-2FA72C48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6142-3633-4F00-9585-8D20642A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32CB-395B-468B-8FAC-934A3C68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FC6D-407C-42CC-A91E-06BA2CF3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E054-3618-4557-BEA9-615D39B3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27AD-2F07-4471-BB1C-B8FFF63FB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D7ED-9779-4474-B317-42B374F16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C33E-C274-454E-8777-1EE98FC3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2D7C-C1F3-4E58-8565-C9ADD263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3DD9-C575-48D2-A007-FB6D8162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98EC-92B8-474F-A685-7EDE4BE6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EAAE-48D0-49FB-A14B-D1B71647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88D5-6755-46D2-98DE-F5945901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CA3D-00D1-4ACB-B105-C237066C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0A21-B6C7-411B-AA81-235133B871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AF29-538A-475F-AC1E-17843C4FE8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1"/>
                </a:solidFill>
                <a:latin typeface="Times New Roman"/>
              </a:rPr>
              <a:t>Till There Was No Remedy</a:t>
            </a:r>
            <a:br>
              <a:rPr sz="4400"/>
            </a:br>
            <a:r>
              <a:rPr b="0" lang="en-US" sz="4400" spc="-1" strike="noStrike">
                <a:solidFill>
                  <a:srgbClr val="ffffe1"/>
                </a:solidFill>
                <a:latin typeface="Times New Roman"/>
              </a:rPr>
              <a:t>(The Divided Kingdom -1)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rter 6, Lesson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gs. 81-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Kings 13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00200" y="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1"/>
                </a:solidFill>
                <a:latin typeface="Arial"/>
              </a:rPr>
              <a:t>Where We Are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2362320"/>
            <a:ext cx="609480" cy="1600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1523880"/>
            <a:ext cx="76320" cy="838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43200" y="1828800"/>
            <a:ext cx="76320" cy="533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124080" y="4800240"/>
            <a:ext cx="76320" cy="609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2437920" y="4419720"/>
            <a:ext cx="762120" cy="3808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971800" y="3885840"/>
            <a:ext cx="533520" cy="1219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e1"/>
                </a:solidFill>
                <a:latin typeface="Times New Roman"/>
              </a:rPr>
              <a:t>Judah and Israe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1"/>
                </a:solidFill>
                <a:latin typeface="Arial"/>
              </a:rPr>
              <a:t>Jud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1"/>
                </a:solidFill>
                <a:latin typeface="Arial"/>
              </a:rPr>
              <a:t>Joash is repairing the te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e1"/>
                </a:solidFill>
                <a:latin typeface="Arial"/>
              </a:rPr>
              <a:t>Priest, Jehoida, dies at 1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e1"/>
                </a:solidFill>
                <a:latin typeface="Arial"/>
              </a:rPr>
              <a:t>Joash compromises with idolatry 2 Chron.24:17-1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e1"/>
                </a:solidFill>
                <a:latin typeface="Arial"/>
              </a:rPr>
              <a:t>Zechariah rebukes and is stoned for telling the truth – 2 Chron.24:20-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1"/>
                </a:solidFill>
                <a:latin typeface="Arial"/>
              </a:rPr>
              <a:t>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1"/>
                </a:solidFill>
                <a:latin typeface="Arial"/>
              </a:rPr>
              <a:t>Jehoahaz begins his evil 17 yr. re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e1"/>
                </a:solidFill>
                <a:latin typeface="Arial"/>
              </a:rPr>
              <a:t>Israelites brought low by God through the Syri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1"/>
                </a:solidFill>
                <a:latin typeface="Arial"/>
              </a:rPr>
              <a:t>Jehoash – Israel’s 12</a:t>
            </a:r>
            <a:r>
              <a:rPr b="0" lang="en-US" sz="2400" spc="-1" strike="noStrike" baseline="30000">
                <a:solidFill>
                  <a:srgbClr val="ffffe1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e1"/>
                </a:solidFill>
                <a:latin typeface="Arial"/>
              </a:rPr>
              <a:t> 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e1"/>
                </a:solidFill>
                <a:latin typeface="Arial"/>
              </a:rPr>
              <a:t>16 evil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e1"/>
                </a:solidFill>
                <a:latin typeface="Times New Roman"/>
              </a:rPr>
              <a:t>Judah and Israe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1"/>
                </a:solidFill>
                <a:latin typeface="Arial"/>
              </a:rPr>
              <a:t>Juda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e1"/>
                </a:solidFill>
                <a:latin typeface="Arial"/>
              </a:rPr>
              <a:t>Death of Joash – 2 Kgs.12:19-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e1"/>
                </a:solidFill>
                <a:latin typeface="Arial"/>
              </a:rPr>
              <a:t>Amaziah – co-regent with Joash for about 2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e1"/>
                </a:solidFill>
                <a:latin typeface="Arial"/>
              </a:rPr>
              <a:t>Amaziah’s character -2 Kgs.14:1-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e1"/>
                </a:solidFill>
                <a:latin typeface="Arial"/>
              </a:rPr>
              <a:t>Avenges his father’s death -5-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1"/>
                </a:solidFill>
                <a:latin typeface="Arial"/>
              </a:rPr>
              <a:t>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e1"/>
                </a:solidFill>
                <a:latin typeface="Arial"/>
              </a:rPr>
              <a:t>Jehoahaz dies – 2 Kgs 13:8-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e1"/>
                </a:solidFill>
                <a:latin typeface="Arial"/>
              </a:rPr>
              <a:t>Hazael of Syria dies – 2 Kgs.13:22-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e1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ffffe1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ffffe1"/>
                </a:solidFill>
                <a:latin typeface="Arial"/>
              </a:rPr>
              <a:t> year of Joa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e1"/>
                </a:solidFill>
                <a:latin typeface="Arial"/>
              </a:rPr>
              <a:t>Elisha’s death-bed prophecy – 2 Kgs.13:14-1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4:17:13Z</dcterms:created>
  <dc:creator>Terry W. Benton</dc:creator>
  <dc:description/>
  <dc:language>en-US</dc:language>
  <cp:lastModifiedBy>Terry W. Benton</cp:lastModifiedBy>
  <dcterms:modified xsi:type="dcterms:W3CDTF">2005-09-08T16:45:31Z</dcterms:modified>
  <cp:revision>1</cp:revision>
  <dc:subject/>
  <dc:title>Till There Was No Remedy (The Divided Kingdom -1)</dc:title>
</cp:coreProperties>
</file>